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4C3-5674-48A0-BA69-5CA6E76D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5F7-D8B0-4145-9170-405BECCC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B47-BF81-4445-80D9-198E5B48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99B-2523-4B50-9BBA-BD3FE4AB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BA7-F910-444E-BC93-FCF52871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C81-FDAC-4159-9ACA-7F1C5B34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68F-4DEA-494D-B92A-F26E87ED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348-DB5F-4900-8702-5CAE3E95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8CD-70BC-446B-8F9E-ABE3A02F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11C-76C4-4644-87FA-864826F6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14A-C628-4750-BD9A-3AA35C5D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837-E2B0-475F-A548-223F5D9C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235B-9146-40C4-80B7-FAFCAE373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008502FOiXzyWBRd_ph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03960" y="120600"/>
            <a:ext cx="5619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ني محجو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داخل كاس وقرب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لكن موج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 وبوجد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جودك خشوع وره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عطي سعادة ل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ينقلني لدنيي تان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00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471240" y="590400"/>
            <a:ext cx="1008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ة اتمنيت اسهر عندك سهرية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أنا والليل مع نجماتو المضو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جماتو نعسو وناموا- والليل اتغطى بحرامو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بقيت سهرانة عي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5006587ohtFiSbExQ_ph" descr=""/>
          <p:cNvPicPr/>
          <p:nvPr/>
        </p:nvPicPr>
        <p:blipFill>
          <a:blip r:embed="rId2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5880" y="0"/>
            <a:ext cx="289584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ركع ساع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غرق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بحر جفونك             صعبة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ربي وقاس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من دون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س بإيد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حمل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ادنية ح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وصل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وف الآم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عيون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15:29Z</dcterms:modified>
  <cp:revision>9</cp:revision>
  <dc:subject/>
  <dc:title>PowerPoint Presentation</dc:title>
</cp:coreProperties>
</file>